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759-A4CE-4DE9-A0CA-D79C8AD8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0AC-16D1-4D57-897E-EA2E9D5F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DA1-7524-475C-8CAA-7407715D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5C4-887B-415E-91CB-D4BDEEE1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13A5-3E3F-47EF-895B-329DE955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513-191E-453F-A57A-0761CF0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B1CE-A86A-4980-A813-F438689C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DF5D-254B-459F-B427-5C4E0C79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3D6-9724-4DFD-AC2B-E30B3DEA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EEFD-CE6A-4E83-91FA-1E8A76E0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CE7C-63A6-4947-B8E5-1DADDEE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563-B2AB-4E6F-BE5D-9EC52E0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0950-F61B-47CC-96F0-397A1E8F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3125-2569-4CBF-83D1-3CCC1F9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FA8-3F28-455C-B856-02EB750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F0A0-F401-4300-940E-CFDD88AD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14B8-37A3-47AC-A609-5732218C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0DA-783D-4A91-ACF5-35F49D1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9FB-99BD-4A43-BBCB-E68CCD5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ECD-029D-4158-A68F-7BACA34E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EE8-8152-497F-B7BE-E03DFF02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40B-8D8D-431F-9BD0-90097715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F40-F489-4A1C-914A-B10034DB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CFF-A6CD-41D0-B3AA-D517C6C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82F-6C4E-4251-A310-A7703DFF3E3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A6B-F80F-4AC8-9A4D-9C226BA10A9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4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2"/>
          <a:stretch/>
        </p:blipFill>
        <p:spPr>
          <a:xfrm>
            <a:off x="4114800" y="4653000"/>
            <a:ext cx="5029200" cy="2205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3200400" y="380880"/>
            <a:ext cx="2209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fghanis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war filled and flighty country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133720" y="2666880"/>
            <a:ext cx="426708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arty repub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 Kab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Persian, Pash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 99% Muslim, 1%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28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al gas, petroleum, coal, copper, sulfur, lead, zinc, iron ore, s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z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7057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im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248520" y="4191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os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525780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295596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5"/>
          <a:stretch/>
        </p:blipFill>
        <p:spPr>
          <a:xfrm>
            <a:off x="0" y="266688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6"/>
          <a:stretch/>
        </p:blipFill>
        <p:spPr>
          <a:xfrm>
            <a:off x="6324480" y="2362320"/>
            <a:ext cx="28195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7T20:45:40Z</dcterms:modified>
  <cp:revision>12</cp:revision>
  <dc:subject/>
  <dc:title>Slide 1</dc:title>
</cp:coreProperties>
</file>